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BA0-C8A5-4C7F-AF31-7C9923A8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6A2-8F80-4048-AD0F-5E4F0961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D23-3E8F-4A29-A81E-BAE6891D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593-B66F-451C-B048-C944C4D8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DDF-A04A-47ED-B4FB-6CD05D5C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2C9-0D62-4B76-AEB9-2F6A6F26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EFE-25BF-421C-812F-74B48441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37C-12B8-44CD-A8E6-F0D42285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E1B-991C-422A-BFEA-89D50B5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20F-5511-4D1F-BA1B-80602A87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52E-3842-4993-824F-09D7973E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0F3-AD77-4CDE-B8F2-717B41AF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466B-EE3D-4F0C-BEF0-BC0342BC8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strangelo Edessa"/>
              </a:rPr>
              <a:t>Ropa Catálogo de Estacio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strangelo Edessa"/>
              </a:rPr>
              <a:t>By: </a:t>
            </a:r>
            <a:r>
              <a:rPr b="0" lang="en-US" sz="3200" spc="-1" strike="noStrike">
                <a:solidFill>
                  <a:srgbClr val="bbe0e3"/>
                </a:solidFill>
                <a:latin typeface="Estrangelo Edessa"/>
              </a:rPr>
              <a:t>Kaley Brudner</a:t>
            </a:r>
            <a:r>
              <a:rPr b="0" lang="en-US" sz="3200" spc="-1" strike="noStrike">
                <a:solidFill>
                  <a:srgbClr val="000000"/>
                </a:solidFill>
                <a:latin typeface="Estrangelo Edessa"/>
              </a:rPr>
              <a:t> &amp; </a:t>
            </a:r>
            <a:r>
              <a:rPr b="0" lang="en-US" sz="3200" spc="-1" strike="noStrike">
                <a:solidFill>
                  <a:srgbClr val="bbe0e3"/>
                </a:solidFill>
                <a:latin typeface="Estrangelo Edessa"/>
              </a:rPr>
              <a:t>Samantha Gre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Ropa Para el</a:t>
            </a:r>
            <a:r>
              <a:rPr b="1" lang="en-US" sz="44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French Script MT"/>
              </a:rPr>
              <a:t>Invi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Julissa lleva abrigo largo, blanco y marrón, los pantalones, marrónes, y botas, marrón. Ella es muy cómodo!</a:t>
            </a: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Lola lleva una camisa, roja y blanca, y pantalones, negro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Ella es con esti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2943360"/>
            <a:ext cx="2438280" cy="391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weater"/>
          <p:cNvPicPr/>
          <p:nvPr/>
        </p:nvPicPr>
        <p:blipFill>
          <a:blip r:embed="rId3"/>
          <a:stretch/>
        </p:blipFill>
        <p:spPr>
          <a:xfrm>
            <a:off x="6629400" y="2743200"/>
            <a:ext cx="2209680" cy="367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6200" y="4648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Juice ITC"/>
              </a:rPr>
              <a:t>Ropa para </a:t>
            </a:r>
            <a:r>
              <a:rPr b="1" lang="en-US" sz="4400" spc="-1" strike="noStrike">
                <a:solidFill>
                  <a:srgbClr val="ffcc00"/>
                </a:solidFill>
                <a:latin typeface="Juice ITC"/>
              </a:rPr>
              <a:t>la primave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Sara lleva una blusa, gris y blanca, una cinturón, marrón, y pantalones cortos, azules. Tambien, una pulsera, plata. Ella es muy lin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Clara lleva una blusa, amarillo y blanca, pantalones, negros, y pulsera, ora. Ella es muy bonit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243828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867280" y="1371600"/>
            <a:ext cx="2146320" cy="3219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Ropa para el </a:t>
            </a:r>
            <a:r>
              <a:rPr b="0" lang="en-US" sz="4400" spc="-1" strike="noStrike">
                <a:solidFill>
                  <a:srgbClr val="99cc00"/>
                </a:solidFill>
                <a:latin typeface="Haettenschweiler"/>
              </a:rPr>
              <a:t>veran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Cassidy lleva traje de baño, azul, violeta, y negra. se traje de un bikini. Ella es muy perfec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aettenschweiler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aettenschweiler"/>
              </a:rPr>
              <a:t>Cassidy lleva traje de baño, rojo, azul, y amarillo. Ella es muy de m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157140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90920" y="1905120"/>
            <a:ext cx="1571400" cy="24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2066760" cy="318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Ropa Para el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Constantia"/>
              </a:rPr>
              <a:t>Oto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Laura lleva un vestido, blanco y rosado. Tambien, una pulsera, brillante y plata. Ella es muy est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Grace lleva camisa, amarilla y gris, un cinturón, blanco y amarillo, pantalones, negro, y una pulsera, pl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2247840" cy="337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946920" y="1143000"/>
            <a:ext cx="2197080" cy="329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Constantia"/>
              </a:rPr>
              <a:t>Model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nstantia"/>
              </a:rPr>
              <a:t>Unas 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Vestido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DRESS"/>
          <p:cNvPicPr/>
          <p:nvPr/>
        </p:nvPicPr>
        <p:blipFill>
          <a:blip r:embed="rId2"/>
          <a:stretch/>
        </p:blipFill>
        <p:spPr>
          <a:xfrm>
            <a:off x="4800600" y="2895480"/>
            <a:ext cx="2197080" cy="321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DRESS"/>
          <p:cNvPicPr/>
          <p:nvPr/>
        </p:nvPicPr>
        <p:blipFill>
          <a:blip r:embed="rId3"/>
          <a:stretch/>
        </p:blipFill>
        <p:spPr>
          <a:xfrm>
            <a:off x="6997680" y="2895480"/>
            <a:ext cx="2146320" cy="321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71600" y="2895480"/>
            <a:ext cx="2146320" cy="321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DRESS"/>
          <p:cNvPicPr/>
          <p:nvPr/>
        </p:nvPicPr>
        <p:blipFill>
          <a:blip r:embed="rId5"/>
          <a:stretch/>
        </p:blipFill>
        <p:spPr>
          <a:xfrm>
            <a:off x="3048120" y="2895480"/>
            <a:ext cx="2211120" cy="321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0" y="2895480"/>
            <a:ext cx="2147760" cy="3222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French Script MT"/>
              </a:rPr>
              <a:t>Catálogo realizado por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Saman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Le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Gre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Ka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Is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Brud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6019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aettenschweiler"/>
              </a:rPr>
              <a:t>G           R           A           C           I           A          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23:12:48Z</dcterms:created>
  <dc:creator>Kaley</dc:creator>
  <dc:description/>
  <dc:language>en-US</dc:language>
  <cp:lastModifiedBy>Kaley</cp:lastModifiedBy>
  <dcterms:modified xsi:type="dcterms:W3CDTF">2012-01-16T23:26:15Z</dcterms:modified>
  <cp:revision>4</cp:revision>
  <dc:subject/>
  <dc:title>Ropa Catálogo de Estaciones </dc:title>
</cp:coreProperties>
</file>